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978-BBCB-49D3-8735-40248420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891-57AD-4F27-9C24-8CD34CA0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90A-24FC-481D-8C68-03A0EAF5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B4E-06C3-439B-8280-845F44C3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D3A-CBDC-4BD5-A486-196EF2BA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624-A264-4D2E-86C7-6FE00661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6BE-B0B9-4F00-AE2B-1C9A37BF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345-0D4F-45D4-B2C0-D862DA83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004-FC0C-488B-932D-27B311B2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C58C-FF4F-40CD-B563-68A6AD1C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D936-A6AA-4347-ABEC-D7E1D71B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FA4-D2B5-4380-A79B-D6B6A875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3B06-6FD2-429F-85E7-A8A88C84E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928800"/>
          <a:ext cx="6019920" cy="50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28800"/>
                    <a:ext cx="601992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20:43:57Z</dcterms:created>
  <dc:creator>lambesi</dc:creator>
  <dc:description/>
  <dc:language>en-US</dc:language>
  <cp:lastModifiedBy>lambesi</cp:lastModifiedBy>
  <cp:lastPrinted>2003-04-24T19:47:02Z</cp:lastPrinted>
  <dcterms:modified xsi:type="dcterms:W3CDTF">2003-04-24T19:48:26Z</dcterms:modified>
  <cp:revision>18</cp:revision>
  <dc:subject/>
  <dc:title>Sin título de diapositiva</dc:title>
</cp:coreProperties>
</file>